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316-D7A6-4FB5-8A9D-AC4149CE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EFA-DA21-434A-922F-40693184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4FF2E-628C-4201-AB84-B6281FE2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7B37D-5C4D-4777-A211-B48F14C5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045C1-74AE-4D76-8421-A7D08E16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74530-B75F-4C83-B502-641199C6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31EF-71AA-4605-887F-63974F9D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BD977-8555-46B7-8B2E-90FC023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872C5-303F-4895-B578-9A21257B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4BA57-F334-4016-92CA-BE036770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D84E2-3C99-40E8-A875-FA7CE20E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FEC01-A9BD-48A8-8968-BB04FF30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72C-4DA8-4D8B-865E-E7C7DC23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C3ACA-B683-4142-9870-ADE1F7AF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E9478-0C1F-4FDF-83B5-C1F051D8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E72EC-B229-4B5B-99EC-318FFA97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7D81E-E51E-4420-ABCE-ABA32E8B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A37BC-E156-4F49-BBF5-97FF7F93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D9A4D-9972-4C27-9070-9D0E7D85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AF56D-AE76-41FF-9DBE-4B12F737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A21B0-027D-4C2D-8F55-1E338D4E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682EE-73C2-42DE-935A-10CB472B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1AFD-9F9E-477B-B758-75C3FD2E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87F-6622-4C01-A353-3EF624DF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F95FB-45F7-4293-9B9E-415A4A71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FD630-BC41-4916-B3E1-09D0C7B1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008FD-297C-4F0A-9816-7938A1D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8DE3B-C2EA-46DA-B18B-5869365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FEAFC-22BE-4954-A049-39E5E6E0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6B924-98DB-4640-B02C-2B172A00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B0F80-BEBB-4BB0-9913-51F4B648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F1AEF-1C2B-46F0-B28F-82DE09C1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2AE20-09D8-4D20-B247-E7EB7D95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99DE6-5A4F-4DF8-8FF2-897AEAF7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DE46-5401-48DE-94AC-EB90C56B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4A679-E389-467B-B04C-6E2B179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4B7A0-1553-4146-BE34-97D5C79B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CB329-4CC6-43DB-ACE4-5E64B8F3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2E534-5562-48EA-9DC4-D46FA820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2C1EB-ED0A-4C55-AD2F-9BBA78A6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05BA2-E0E6-42F1-AA19-51609250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762AA-127F-4817-8DAA-E5205F4B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6182B-B0EF-4915-A904-0B5DFF8B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04997-85C8-4C83-A6B2-0FFB76E6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41B6C-C95A-4493-B591-C6D84EE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654D-7F57-4A4C-96A8-F8A8A942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94BC3-97F1-4160-83D7-383784E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84EF1-4555-44B9-BF64-EEBD2B5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DA5F5-EF4D-4D02-9646-9ACF858C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EC181-497F-4A69-AD47-87B9C3D3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0205C-E2AF-47A2-84B8-6503BA07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7D78-83C8-4E47-993E-526F4272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8BE-6255-4BD0-B47A-2805A68C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99BF-43F3-4CFE-8CA5-D098334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1DC6-0309-47B6-9AAE-4AC25355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436-8EFD-42B6-85AC-012B1F7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7A3-E5BE-4FAA-84A4-48FE7954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AE60-FCD4-4634-B173-5B16E21B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53CD-8AC3-491E-9ACF-5AADE053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7F78-3EDD-4DF6-9F4A-D907598C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A39F-AB05-42A1-8315-AFDD75F1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D188-35B7-4055-8432-3DE35A8F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17D6-2E8B-4069-A0B2-71588550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CC46-2E4F-415A-8BEA-B5D21A41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EF8F-DF1D-4183-86BD-EA6A7EDC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88D2-7932-49D4-AB09-20B5E6C6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5874-2717-49F9-BE10-B7B5A38A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753-BF7F-492B-AC21-BAAFAF8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2007-0D47-4E20-BAEF-170C6A76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3A20-62F5-47A4-8669-E55BBEDF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65C7-4C5E-43C7-9499-4F14A0DD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BFB2-4EA5-4BCD-B23F-7BB237F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20C1-740C-4BE6-A964-673494B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266B-6CA5-418F-829E-303496C1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6246-01E5-4203-92E6-8EF1A123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E1498-70F6-4408-A1A8-9C19F4EA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9C0A6-E3C3-4541-B33A-074099F5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D281-E4B7-4F56-9CC5-3AE90D1D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7A3-60D7-4987-96DB-9A6B2543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B751-DA3E-4281-A8E0-10C848F1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8D32-70A8-4184-9201-1DA43CC1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B3780-A403-4C1F-A3AC-6A3AED2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1E23-CB03-475E-A4EC-A34EF944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3F28-9AA1-4D3D-A978-B10DFA2E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F9DC-4245-4458-AC7E-9F755BC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8381-6732-498B-B02E-730F73AE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9D38-C071-4851-B0D1-FDCD4B9B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43F3-C90F-41A0-B831-D5B7A539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B855-3927-403A-BD4C-2BD39D90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8F0-201B-44D5-AEEC-D0500208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4F466-4F81-4C3C-BE7C-180DE200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0A4E8-A09A-4991-A997-E7D126FD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BED4C-FF38-4C99-96EB-03D440B9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E8B4-C8F4-40A8-B1A0-FD9EE218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4F30-C66F-4EC5-B508-83E2A48E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E7C0-D4C5-49A1-8377-BE5684B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E7FD7-DC02-4D85-B635-8B6F6E7B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2CEA-DC13-4034-BA7D-798B0C2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3204-DBB9-45F4-90E8-AE7B7E1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D3CE-8CC6-41B2-BF55-6B59EA96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11F-B785-4AF3-AD34-50F2A0A5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ED92-52F4-476B-9559-A9BC9862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28325-43F2-4118-8E32-B26476CB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88DA-E11B-4DC7-A549-5B99941D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69BF-0406-401A-B5A5-29A7BA2E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41F86-56FE-4ED6-801A-0759BDDB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51B8E-C28B-4E07-9820-0A907065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6468-EB9B-41BB-84B2-C823A20A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0A91-B4F2-4CEF-95D8-2CF0795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A300-0A5C-401E-B5EF-6BCF818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1C760-C9E2-4D45-8B17-24A48B7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9B7-51E7-4C68-A0C5-61C72AE0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2597-3D80-44D6-A530-099628CD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9A8A-B035-49B9-BB8D-0AE62835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B2D0-4429-44DA-A72B-274C0B32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E1113-AE88-4517-A43C-2C1C1515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3F806-84F5-48F2-87CA-CFA312E4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DA7C5-FF58-41C0-A1AC-12AD3A86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7337E-0D0A-42A9-88F1-9B246F1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76F7-26AC-462B-97B3-45FAF56A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E6BCD-C9F5-4289-8B9F-A6D8D771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AAA3E-AF74-4D89-A7D4-040CBBC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AAD-38E9-4959-B376-BF0AF238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1F445-936D-406A-BB87-88A15498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96C16-1D28-497E-9F55-8FB67B4E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76C59-5034-496A-A681-73F0B4D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96DF9-9CE7-4964-A450-C78B45EE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77FB5-F1F7-4731-BEDC-82E5ADB9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6C839-3D9D-4A3A-B9AB-8C532D3C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31B2-2B35-4029-80FA-5A8BC3CB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F8E9E-90AD-4A34-8F13-3FEB1B2E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9AB4C-6441-4D2C-A710-31EBDF52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1C1AE-66D0-4AD7-A1F1-3E820A1E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B75-AC1B-457D-B9C5-5FD01B8A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C77F5-0890-441C-A94F-0C871EC0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3335F-DCE4-4C2E-8ACD-D3CD776A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DB881-0795-421C-8645-CCE6CBE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0255E-BB52-45C4-9CD5-335B87B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41395-2FE4-405E-8639-632BC172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7C0CD-82E3-43FE-8BAD-8DF36C03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88621-8D4D-48E2-926D-1EDCB83C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35DEB-D60D-4B75-97C2-CA47FC00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56608-0F96-4A1E-83A4-607986F8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B46B5-362A-402D-9C46-BA56A8DA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2667-B1F4-456D-9A44-FE973B7EB3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CE4E-CF37-4792-8D28-B36DFB4E45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7F0B-E1AA-4D75-BF9E-C059357168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87A2-2FF2-4873-8A51-A162C5EEB5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CB47-2002-4B88-A8FC-BAA5228B7A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6927-5593-42A4-9F30-D623526203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929B-49CC-4396-AA33-D8F8CE3D7E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866E-95EB-4273-B8E6-9A3132E249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B9C1-B0A7-4219-AE9C-93B67E9B75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4C86-1ED6-4AA4-8B1C-233A1B7FBD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0814-9329-4F33-9BBA-935090E053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B62-CF4B-4256-BC6E-09EDCEC30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Le  FUTUR  SIMPL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SF 1D  Unité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 verbes irréguli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Verb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adic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njug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VENI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end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e vi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MOURI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ur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u mour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OURI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ur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 cour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NVOY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ver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us enver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HET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hète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us achèt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EV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ève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les lèv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MEMORISEZ CES 16 RADICAUX!!!!!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FUTUR 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létez les phrases avec la bonne 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 FUTUR SI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Je (jouer)…au foot au parc ce so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jou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us (aller) … à la fête d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s filles (finir) … la leçon de da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ini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lton (avoir) … un bon match de hoc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TUR 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aron et Aaron (gagner) … leur m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gagne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ous (voir) … un bon film au ci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ver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u ne (faire) … pas les devo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Je (manger) … des frites et un hot 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mang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TUR 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us (être) … très fatigués après la fê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se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0. On (pouvoir) … rester à la ma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ou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ce </a:t>
            </a:r>
            <a:r>
              <a:rPr b="0" lang="en-US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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Mettez les phrases au futur simple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réfléchi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réfléchi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 parl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ont ent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s entend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v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vien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sa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 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 d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vez vo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voud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5003640" y="4581360"/>
            <a:ext cx="3816360" cy="2014200"/>
          </a:xfrm>
          <a:prstGeom prst="rect">
            <a:avLst/>
          </a:prstGeom>
          <a:noFill/>
          <a:ln w="76320">
            <a:solidFill>
              <a:srgbClr val="ff1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 est l’infiniti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-ce un verbe régulier ou irréguli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gue le verbe au futur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3" dur="75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8" dur="75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75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8" dur="75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3" dur="75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8" dur="75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3" dur="750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8" dur="750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3" dur="75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8" dur="75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3" dur="75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8" dur="75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3" dur="75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8" dur="75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ce 2 – à la négative, s.v.p.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95280" y="1483920"/>
            <a:ext cx="82915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us réfléchi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éfléchiro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 parl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ne parleras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s entend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s n’entendront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vien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e viendra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saur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ne saurai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e d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e ne dira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us voud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us ne voudrez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épondez aux questions suivantes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440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feras-tu demain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l cours prendras-tu l’année procha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qui sortiras-tu vendredi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finiras-tu les devoi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quelle heure regarderas-tu la tél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5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75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75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75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75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75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75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5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75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75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750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750" fill="hold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750" fill="hold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me Indicato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tomorr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 so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o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t après-mi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is afterno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su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f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us t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later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ndant les vaca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uring the holi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 week-end proch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ext week-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’année procha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ext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8950320" cy="568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mation du Futur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ement, on prend l’infinitif (c’est appellé le radical) d’un verbe et on ajoute les terminaison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/Elle/On/Qui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/Elles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0033"/>
                </a:solidFill>
                <a:latin typeface="Times New Roman"/>
              </a:rPr>
              <a:t>Comment former le FUTUR  SIMPLE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égu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je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0033"/>
                </a:solidFill>
                <a:latin typeface="Arial"/>
              </a:rPr>
              <a:t>I will speak,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u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you (sing)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l/elle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/she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us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ons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e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ous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z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you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ls/elles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ont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y(f./m)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16000" y="1628640"/>
            <a:ext cx="165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Comment former le FUTUR  SIMPLE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égu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e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u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ou (sing.)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/elle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/she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us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e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us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z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ou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s/elles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t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hey (m./f.)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ilà les autres exempl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in, je parlerai à mon amie A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née prochaine, ils vendront leur ma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deux jours, nous chanterons chez Blessed Tri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choisiront leurs cours pour l’année procha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 verbes en </a:t>
            </a: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« -re 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conjuguer les verbes e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-re », on enlève le « e » de l’infinit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: Pren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e prendr</a:t>
            </a: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u prendr</a:t>
            </a: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ultiply 3"/>
          <p:cNvSpPr/>
          <p:nvPr/>
        </p:nvSpPr>
        <p:spPr>
          <a:xfrm>
            <a:off x="2916360" y="3645000"/>
            <a:ext cx="431640" cy="360360"/>
          </a:xfrm>
          <a:custGeom>
            <a:avLst/>
            <a:gdLst/>
            <a:ahLst/>
            <a:rect l="l" t="t" r="r" b="b"/>
            <a:pathLst>
              <a:path w="431800" h="360363">
                <a:moveTo>
                  <a:pt x="76554" y="119087"/>
                </a:moveTo>
                <a:lnTo>
                  <a:pt x="130861" y="54014"/>
                </a:lnTo>
                <a:lnTo>
                  <a:pt x="215900" y="124984"/>
                </a:lnTo>
                <a:lnTo>
                  <a:pt x="300939" y="54014"/>
                </a:lnTo>
                <a:lnTo>
                  <a:pt x="355246" y="119087"/>
                </a:lnTo>
                <a:lnTo>
                  <a:pt x="282040" y="180182"/>
                </a:lnTo>
                <a:lnTo>
                  <a:pt x="355246" y="241276"/>
                </a:lnTo>
                <a:lnTo>
                  <a:pt x="300939" y="306349"/>
                </a:lnTo>
                <a:lnTo>
                  <a:pt x="215900" y="235379"/>
                </a:lnTo>
                <a:lnTo>
                  <a:pt x="130861" y="306349"/>
                </a:lnTo>
                <a:lnTo>
                  <a:pt x="76554" y="241276"/>
                </a:lnTo>
                <a:lnTo>
                  <a:pt x="149760" y="180182"/>
                </a:lnTo>
                <a:lnTo>
                  <a:pt x="76554" y="11908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9c99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75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75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75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75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33"/>
                </a:solidFill>
                <a:latin typeface="Times New Roman"/>
              </a:rPr>
              <a:t>Comment former le FUTUR  SIMP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égu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-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e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u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ou (sing.)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/elle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/she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us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e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us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z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ou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s/elles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t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hey (m./f.)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33"/>
                </a:solidFill>
                <a:latin typeface="Times New Roman"/>
              </a:rPr>
              <a:t>Les verbes irrégulier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erb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adic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jug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VOI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u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’au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ÊTR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u se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AIR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l fe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LLE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us i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VOI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vr-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us dev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UV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ur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les pour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VOUL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ud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e voud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V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r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u ver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AV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u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le sau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RECEV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v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us recev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2:33:22Z</dcterms:created>
  <dc:creator>LOU soligo</dc:creator>
  <dc:description/>
  <dc:language>en-US</dc:language>
  <cp:lastModifiedBy>Biega, Sarah</cp:lastModifiedBy>
  <dcterms:modified xsi:type="dcterms:W3CDTF">2015-05-26T17:07:49Z</dcterms:modified>
  <cp:revision>26</cp:revision>
  <dc:subject/>
  <dc:title>Le  FUTUR  SIMPLE</dc:title>
</cp:coreProperties>
</file>